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AD6E-D131-4E8F-A374-C4307EFD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802A-E340-4421-B6D1-3CDE1517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3373-F4FA-4228-80EA-103BE03B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8981-5434-436C-BC0B-A3C6BEF0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6FBD-8A2A-4F48-98BA-6FC8B454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437E-02C3-4E64-83E5-45442AC5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C4C7-591F-4ED5-A909-5F5B5364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0336-ED0D-4A5F-B941-3B6DD27C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D82F-2326-409A-952B-4CBFF1E4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67B5-B7F3-4985-BDEE-C191EB4F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32EA-9188-4F79-818D-8E8EEFDD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29CC-5B4A-49B6-A8E4-0D4127BF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E5E2-BD5A-4CB4-B7D0-95E1DE8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EFC8-8EA8-445F-85B5-084CF504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2CC3-A1F3-4813-8757-A9C06664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6B7-4A91-4EEE-9FB4-C32F518A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2A55-5E1C-4E11-8241-CDD482A9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16B1-79E3-4550-BB82-95AD05A3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7482-F936-4BBE-B8D8-BE3BB668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D439-974B-4FCD-84BE-07B60714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562F-3C92-4E53-8251-E4A5C36F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4615-C1C4-4735-A1DB-19C7E1C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457E-B933-4F9D-B005-BEBCB472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AA39-52D8-47DA-B9D4-BAC5D9E2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6931-0534-42F4-B843-B6AFC585EF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68FA-9266-4749-A814-4BB98F6D92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529360" y="401760"/>
            <a:ext cx="3390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moris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de Aliata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con azules tahalí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rvos alfanjes dorad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i coronados de plu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bonetes african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no de lutos vest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traron de cuatro en cuatr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l mal logrado Aliat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afligidos sold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gran empresa del Fénix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n la bandera vola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penas lo trató el vien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627280" y="60480"/>
            <a:ext cx="3745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emiendo el fuego tal al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a por señas de dolor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arre el suelo y deja el camp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rrastrando entre la se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l alférez va arrastran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alió el gallardo Aliat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 cien moriscos gallar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 defensa de Mot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socorro de su her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 caballo salió el mor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otro día desdich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 negras andas le vuel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 donde salió a caball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340000" y="333360"/>
            <a:ext cx="3527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balleros del maestr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n el camino encontrar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cubiertos de unas cañ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furiosos le saltear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iriéndole malamen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rió Aliatar mal logra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los suyos, aunque rot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vencidos se tornar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sólo le lloró Za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ero acompáñanla cu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l Albaicín  a la Alham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eben de Genil y Darr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528280" y="546120"/>
            <a:ext cx="331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s damas  como a galá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valientes como a brav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alcaides como igu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plebeyos como a ampar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3:33:51Z</dcterms:created>
  <dc:creator> </dc:creator>
  <dc:description/>
  <dc:language>en-US</dc:language>
  <cp:lastModifiedBy> </cp:lastModifiedBy>
  <dcterms:modified xsi:type="dcterms:W3CDTF">2007-10-03T03:57:16Z</dcterms:modified>
  <cp:revision>7</cp:revision>
  <dc:subject/>
  <dc:title>Diapositiva 1</dc:title>
</cp:coreProperties>
</file>